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A80-DB04-4150-991C-6866CF31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BF8-94EC-4742-B29B-7C28257E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78F-7EA0-4841-8395-63483825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4C9-F3CF-499F-9EF0-B8EFFA92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906-383F-442E-9CFD-CC9224B7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29D-F069-48ED-92ED-BF88A30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14D-633E-4D65-B189-DE672BD8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515-048F-4882-888E-C0112FF7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3F3-2A22-43C8-B1C8-CB7E615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EF5-76B0-456D-840E-884A96E1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9D3-A0FF-4395-A027-C22F47FD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1B4-FDC5-415A-AA7E-CF7EEBB9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2B66-40C8-4E9F-B76B-CD9341828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0000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Conquistadors and pre Columbian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Ryan Flanagan and 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.2 Identify the three major pre-Columbian civilizations that existed in Central and South America (Maya, Aztec, and Inca) and their locations. Describe their political structures, religious practices, and use of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5.4 Explain why the Aztec and Inca civilizations declined in the 16th cen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A. the encounters between Cortez and Montez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. the encounters between Pizarro and the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. the goals of the Spanish conquista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. the effects of European diseases, particularly smallpox, throughout the West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t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y controlled many other tribes and made them give them money and othe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Aztecs were located in central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Aztecs god Quetzalcoatl had   disappeared year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Aztecs and Montezuma, welcomed Cortez thinking he was their 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Spanish destroyed the Aztecs city Tenochtitlan and made a new one( Tenochtitlan was located in the middle of the lak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7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ayas lived on the coast of Mexico on the Yucatan Penins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were all Polytheistic ( polytheistic means belief in more than one g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had slaves that could sometimes gain their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ir city was much harder for conquistadors to overth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ku.e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 civilization was huge.  (over 20 million peopl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s did not favor gold and silver as much as the Spaniards d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as were easily taken over by Pizarro because of the Civil War going on (civil war is 2 or more groups fighting against their own countr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60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0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0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0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4952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4400" y="91368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2.hawaii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2f75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ort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e Aztecs were shocked when they saw Cortez and his men riding horses because they have never seen them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rtez took over the leader, Montezuma and held him for ho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rtez was mistaken for the Aztec god Quetzacoat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z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arro took control of the Inca civ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a emperor was held captive by Pizar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arro tricked the Incas and did not return Atahualpa and killed the Incan empe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2371680" cy="2400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567040" y="243756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iscovermachupicchu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Central and South America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anish Explorers and Conquistadors changed the majority of people that  no longer worship the gods( conquistador means they conqu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to believe in other gods, but now they are Christ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now speak Spanish and they no longer speak there n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5:54:28Z</dcterms:created>
  <dc:creator>jklib</dc:creator>
  <dc:description/>
  <dc:language>en-US</dc:language>
  <cp:lastModifiedBy>jklib</cp:lastModifiedBy>
  <dcterms:modified xsi:type="dcterms:W3CDTF">2011-11-29T16:24:46Z</dcterms:modified>
  <cp:revision>9</cp:revision>
  <dc:subject/>
  <dc:title>Conquistadors and pre columbium civilization</dc:title>
</cp:coreProperties>
</file>